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0EB1-319F-43CD-856F-FC623332E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7550-2407-4D18-97EF-D280E92A8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ws the first missionary journey of Paul as described in Acts chapters 13 and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E99-991C-4767-8F85-9EA5BB22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02B4-7FF8-489D-9DC9-3196261D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2FD-7C4C-4110-A71F-4B22C51B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E3F-0C0B-44CA-B108-5502B5E9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034E-90B4-46CF-B96E-D07F04F8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227C-0630-4D82-80A7-D7A0A4CB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11CF-E75F-485A-AD1C-9BC2BE66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2E22-FF13-4E3D-A928-34BC431D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573D-7701-41F4-ABCF-916A5CD6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78D8-1C13-4EFE-8BF1-29F79864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1455-5C82-4FAB-9154-6E1D04EF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93B-2157-4CE7-81D8-59140745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A197-D693-4BB4-8DF5-59993713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0766-093B-4A12-A00B-12C010BA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ACAF-55E1-4619-997D-0EB7B145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20E6-31B0-41D2-A229-AA3FC7C7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A43A-DE71-4BB1-B6D8-CDFA422B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675-7F91-45AB-8947-110F9B4A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691-4056-4734-BD1D-B0E09A1B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FD5-0C14-499E-A536-7FCDA28A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88C-58D6-4BC2-BF12-B17FE744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25E-F36C-47A7-90BD-6B5CA64C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82C2-92BE-4116-8D90-5529B0AE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EEE-7969-4893-86C7-684C8406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DA6D-B73A-4113-9443-6FE55BE7263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C59C-B1F0-4BF6-A1F1-DAD873EA8B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Go Tell The Good News”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art 1- Review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1, Lesson 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s 1:1 – 18: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9-1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BC5F-256D-4CFC-ABD7-5A3465AE7CA6}" type="slidenum">
              <a:t>1</a:t>
            </a:fld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Church Is Scattered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8-1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ospel spread to Antio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D4F-7B23-47DC-A245-10C73C091B2F}" type="slidenum">
              <a:t>10</a:t>
            </a:fld>
          </a:p>
        </p:txBody>
      </p:sp>
    </p:spTree>
  </p:cSld>
  <p:transition spd="med">
    <p:circl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8680" cy="3962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133720" y="1295280"/>
            <a:ext cx="7010280" cy="5562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581280" y="457200"/>
            <a:ext cx="398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tioch of Syr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852-9CF5-432A-A359-2FB9ECB9EB88}" type="slidenum">
              <a:t>11</a:t>
            </a:fld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Church Is Scattered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8-1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ospel spread to Antio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ame “Christian” first 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urch at Antioch sent relief to the saints in Jerusalem because of a fam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mes, brother of John, put to de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 jailed but released by an ang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struck Herod (eaten with worms) for accepting honor as a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B17-39CD-4634-9037-4BC349444473}" type="slidenum">
              <a:t>12</a:t>
            </a:fld>
          </a:p>
        </p:txBody>
      </p:sp>
    </p:spTree>
  </p:cSld>
  <p:transition spd="med">
    <p:circl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First Missionary Journey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13-14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called Barnabas and Saul for a preaching tour of lower Asia Min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’s name changed to Paul on Cyp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preached in many c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ws and Gentiles conver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erce opposition arose from unbelie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l stoned at Lys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ders appointed in every chu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3A44-0F52-4CC8-8C9B-7AD7FD5E2939}" type="slidenum">
              <a:t>13</a:t>
            </a:fld>
          </a:p>
        </p:txBody>
      </p:sp>
    </p:spTree>
  </p:cSld>
  <p:transition spd="med">
    <p:circl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11701080" cy="6872400"/>
            <a:chOff x="0" y="0"/>
            <a:chExt cx="11701080" cy="6872400"/>
          </a:xfrm>
        </p:grpSpPr>
        <p:grpSp>
          <p:nvGrpSpPr>
            <p:cNvPr id="144" name=""/>
            <p:cNvGrpSpPr/>
            <p:nvPr/>
          </p:nvGrpSpPr>
          <p:grpSpPr>
            <a:xfrm>
              <a:off x="0" y="0"/>
              <a:ext cx="11701080" cy="6872400"/>
              <a:chOff x="0" y="0"/>
              <a:chExt cx="11701080" cy="6872400"/>
            </a:xfrm>
          </p:grpSpPr>
          <p:pic>
            <p:nvPicPr>
              <p:cNvPr id="145" name="" descr=""/>
              <p:cNvPicPr/>
              <p:nvPr/>
            </p:nvPicPr>
            <p:blipFill>
              <a:blip r:embed="rId1"/>
              <a:srcRect l="0" t="212" r="0" b="-196"/>
              <a:stretch/>
            </p:blipFill>
            <p:spPr>
              <a:xfrm>
                <a:off x="0" y="0"/>
                <a:ext cx="9144000" cy="6872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6" name=""/>
              <p:cNvGrpSpPr/>
              <p:nvPr/>
            </p:nvGrpSpPr>
            <p:grpSpPr>
              <a:xfrm>
                <a:off x="6480" y="17640"/>
                <a:ext cx="11694600" cy="6368400"/>
                <a:chOff x="6480" y="17640"/>
                <a:chExt cx="11694600" cy="63684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658880" y="2298600"/>
                  <a:ext cx="149400" cy="17784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756800" y="2116080"/>
                  <a:ext cx="15422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Iconium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330960" y="3932280"/>
                  <a:ext cx="216000" cy="21600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281960" y="1663560"/>
                  <a:ext cx="32018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Antioch (Pisidian)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609240" y="3614760"/>
                  <a:ext cx="188208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Antioch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434960" y="2575080"/>
                  <a:ext cx="173160" cy="17280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65640" y="2562120"/>
                  <a:ext cx="10958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Lystra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801800" y="3003480"/>
                  <a:ext cx="13968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99720" y="2976480"/>
                  <a:ext cx="1044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Derbe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6006960" y="4167360"/>
                  <a:ext cx="330480" cy="2030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1359000" y="4395960"/>
                  <a:ext cx="4673520" cy="119376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flipV="1">
                  <a:off x="216000" y="5513400"/>
                  <a:ext cx="1092240" cy="1015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165240" y="3026880"/>
                  <a:ext cx="7920" cy="235908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227160" y="2812680"/>
                  <a:ext cx="117360" cy="1681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>
                  <a:off x="1211040" y="1932120"/>
                  <a:ext cx="515880" cy="43488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372600" y="2023920"/>
                  <a:ext cx="839880" cy="6890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139760" y="1860480"/>
                  <a:ext cx="182520" cy="17316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86440" y="4162320"/>
                  <a:ext cx="407232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Mediterranean Sea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4720" y="5748480"/>
                  <a:ext cx="175716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Cyprus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026040" y="423720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151680" y="4286160"/>
                  <a:ext cx="1417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eleucia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225440" y="553248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428120" y="5581800"/>
                  <a:ext cx="1417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alamas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480" y="5456160"/>
                  <a:ext cx="21564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2120" y="5124600"/>
                  <a:ext cx="12801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aphos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7360" y="2914560"/>
                  <a:ext cx="11142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Attalia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2440" y="294156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89520" y="2523960"/>
                  <a:ext cx="10274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erga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63520" y="267984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1550880" y="2450880"/>
                  <a:ext cx="117720" cy="1681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 flipV="1">
                  <a:off x="1521000" y="2698920"/>
                  <a:ext cx="320400" cy="3823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39760" y="3211560"/>
                  <a:ext cx="11461320" cy="106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fafd00"/>
                  </a:solidFill>
                  <a:custDash>
                    <a:ds d="499000" sp="201000"/>
                    <a:ds d="199000" sp="20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555800" y="17640"/>
                  <a:ext cx="42566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99"/>
                      </a:solidFill>
                      <a:latin typeface="Times New Roman"/>
                    </a:rPr>
                    <a:t>1st Missionary Journey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528880" y="353880"/>
                  <a:ext cx="2412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99"/>
                      </a:solidFill>
                      <a:latin typeface="Times New Roman"/>
                    </a:rPr>
                    <a:t>Acts 13 &amp; 14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055840" y="1351080"/>
                  <a:ext cx="401724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fafd00"/>
                      </a:solidFill>
                      <a:latin typeface="Times New Roman"/>
                    </a:rPr>
                    <a:t>Modern Day Turkey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3200400" y="5094360"/>
                  <a:ext cx="177840" cy="12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558720" y="5564160"/>
                  <a:ext cx="177840" cy="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165240" y="4471920"/>
                  <a:ext cx="0" cy="1526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387520" y="4154400"/>
                  <a:ext cx="127080" cy="1296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725800" y="6080040"/>
                  <a:ext cx="20073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Satellite Image - NAS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0" y="73080"/>
              <a:ext cx="1689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©  EBibleTeacher.com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67440" y="420480"/>
            <a:ext cx="10285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66"/>
                </a:solidFill>
                <a:latin typeface="Arial Narrow"/>
              </a:rPr>
              <a:t>Paul-1st Missionary Journey</a:t>
            </a:r>
            <a:endParaRPr b="0" lang="en-US" sz="1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8288280" y="6491160"/>
            <a:ext cx="860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Franklin Gothic Heavy"/>
                <a:hlinkClick r:id="rId2" action="ppaction://hlinksldjump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2B0-07F3-4B3D-943B-71F254D09050}" type="slidenum">
              <a:t>14</a:t>
            </a:fld>
          </a:p>
        </p:txBody>
      </p:sp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“Conference” in Jerusalem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15:1-35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Gentiles had been conver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ws insisted on circumcising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and Barnabas met with the apostles and elders at Jerusa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ter defended Paul’s position that they did not need to be circumc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mes, brother of Jesus, and the church agreed and sent a letter to Antio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as and Silas confirmed the 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2F6-6667-451A-BE51-85A11155EE04}" type="slidenum">
              <a:t>15</a:t>
            </a:fld>
          </a:p>
        </p:txBody>
      </p:sp>
    </p:spTree>
  </p:cSld>
  <p:transition spd="med">
    <p:circl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Second Missionary Journey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15:36 – 18:2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took Silas as his compa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ed through Syria and Cilicia confirming the chur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to Derbe and Lys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othy joined them at Lys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saw a vi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an from Macedonia called for hel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ke joined them at Tro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8CA-3A41-4EFA-9FF3-21FEEBA4E6E4}" type="slidenum">
              <a:t>16</a:t>
            </a:fld>
          </a:p>
        </p:txBody>
      </p:sp>
    </p:spTree>
  </p:cSld>
  <p:transition spd="med">
    <p:circl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Second Missionary Journey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15:36 – 18:2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Philipp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ydia and her household convert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l cast a demon out of a gir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l and Silas beaten with rods and jai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iler and his household conver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o Thessalonica and Be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ed churches but opposition was gre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63F-46FC-4BCA-B6FE-C4A5819570C8}" type="slidenum">
              <a:t>17</a:t>
            </a:fld>
          </a:p>
        </p:txBody>
      </p:sp>
    </p:spTree>
  </p:cSld>
  <p:transition spd="med">
    <p:circl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318-BA1A-4F7C-9ADD-50A3C1F51CB0}" type="slidenum">
              <a:t>18</a:t>
            </a:fld>
          </a:p>
        </p:txBody>
      </p:sp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Second Missionary Journey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15:36 – 18:2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Athen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olatry and philosophy ramp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57EE-FAA5-4492-8F2D-DE06DE9E19DC}" type="slidenum">
              <a:t>19</a:t>
            </a:fld>
          </a:p>
        </p:txBody>
      </p:sp>
    </p:spTree>
  </p:cSld>
  <p:transition spd="med">
    <p:circl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Book of Act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ke: Physician/Histor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ote Gospel of Luke – 58-60 A.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ote book of Acts – 61-64 A.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s 1-12 covers Peter’s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s 13-28 covers Paul’s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8E5-C207-41D0-93E6-328DA3756D56}" type="slidenum">
              <a:t>2</a:t>
            </a:fld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510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3562200"/>
            <a:ext cx="4952880" cy="3295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181480" y="0"/>
            <a:ext cx="3962520" cy="3033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876920" y="3633840"/>
            <a:ext cx="4267080" cy="3224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3733920" y="32004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the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3200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s H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A94-2A7B-4389-AFE7-EF913A8CFDD6}" type="slidenum">
              <a:t>20</a:t>
            </a:fld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Second Missionary Journey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15:36 – 18:2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Corin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converted from pagan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wrote his first epistles from Corin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ters to the Thessalon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brought before Gall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an persuades men to worship God contrary to the law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D8F-68A4-4F75-8535-ACF7CA0B7938}" type="slidenum">
              <a:t>21</a:t>
            </a:fld>
          </a:p>
        </p:txBody>
      </p:sp>
    </p:spTree>
  </p:cSld>
  <p:transition spd="med">
    <p:circl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438280" y="152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ains of Ancient Cori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2193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emple of Apollo, about 540 B.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89B-CC9F-4268-8864-2DE80A1AF129}" type="slidenum">
              <a:t>22</a:t>
            </a:fld>
          </a:p>
        </p:txBody>
      </p:sp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0" y="152280"/>
            <a:ext cx="60199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The Corinth Canal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12193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ed in 18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08D-073D-4B70-96A4-789C9E138ABA}" type="slidenum">
              <a:t>23</a:t>
            </a:fld>
          </a:p>
        </p:txBody>
      </p:sp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Second Missionary Journey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15:36 – 18:2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then went to Ephesus, Jerusalem and back to Antio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828-EAB1-47D1-A9CE-ADA8409AD303}" type="slidenum">
              <a:t>24</a:t>
            </a:fld>
          </a:p>
        </p:txBody>
      </p:sp>
    </p:spTree>
  </p:cSld>
  <p:transition spd="med">
    <p:circl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4920" y="1828800"/>
            <a:ext cx="1295280" cy="609480"/>
          </a:xfrm>
          <a:prstGeom prst="ellipse">
            <a:avLst/>
          </a:prstGeom>
          <a:noFill/>
          <a:ln w="442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49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aul’s Second Jour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685800"/>
            <a:ext cx="1295280" cy="304920"/>
          </a:xfrm>
          <a:prstGeom prst="rect">
            <a:avLst/>
          </a:pr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0" y="6248520"/>
            <a:ext cx="1295280" cy="609480"/>
          </a:xfrm>
          <a:prstGeom prst="ellipse">
            <a:avLst/>
          </a:prstGeom>
          <a:noFill/>
          <a:ln w="442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457200"/>
            <a:ext cx="1523880" cy="304920"/>
          </a:xfrm>
          <a:prstGeom prst="rect">
            <a:avLst/>
          </a:pr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AE6-2BE4-4001-ABDF-CD3FD73B6AB3}" type="slidenum">
              <a:t>25</a:t>
            </a:fld>
          </a:p>
        </p:txBody>
      </p:sp>
    </p:spTree>
  </p:cSld>
  <p:transition spd="med">
    <p:circl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800"/>
                            </p:stCondLst>
                            <p:childTnLst>
                              <p:par>
                                <p:cTn id="4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800"/>
                            </p:stCondLst>
                            <p:childTnLst>
                              <p:par>
                                <p:cTn id="4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11111E-006 C -0.03489 -0.01297 -0.01562 -0.00741 -0.08871 -0.00209 C -0.09201 -0.00185 -0.09826 0.00208 -0.09826 0.00208 C -0.10694 0.00995 -0.09913 0.00416 -0.11128 0.00856 C -0.11458 0.00972 -0.12083 0.01296 -0.12083 0.01296 C -0.12603 0.01759 -0.1309 0.02106 -0.13697 0.02361 C -0.13992 0.02754 -0.14392 0.03009 -0.14669 0.03449 C -0.14826 0.03703 -0.14878 0.04028 -0.14999 0.04305 C -0.1552 0.05463 -0.15919 0.06203 -0.16614 0.07106 C -0.1651 0.12453 -0.16996 0.18009 -0.14669 0.22592 C -0.1427 0.24236 -0.14808 0.22222 -0.14183 0.23866 C -0.14114 0.24074 -0.14149 0.24352 -0.14027 0.24514 C -0.13906 0.24676 -0.13697 0.24676 -0.13541 0.24745 C -0.13176 0.26227 -0.12517 0.26528 -0.1144 0.26875 C -0.10294 0.27916 -0.08298 0.27662 -0.07083 0.27754 C -0.05468 0.27616 -0.03853 0.27546 -0.02256 0.27315 C 0.0073 0.26852 0.01424 0.21227 0.02744 0.18495 C 0.03022 0.17106 0.03386 0.15787 0.03716 0.14421 C 0.03872 0.10023 0.03091 0.10139 0.05487 0.09259 C 0.05174 0.08981 0.04844 0.0868 0.04532 0.08403 C 0.04376 0.08264 0.04046 0.07963 0.04046 0.07963 C 0.03768 0.06944 0.03091 0.05972 0.02431 0.0537 C 0.02327 0.05092 0.02275 0.04745 0.02101 0.04514 C 0.01928 0.04282 0.01667 0.04259 0.01459 0.04097 C 0.01285 0.03958 0.01112 0.03842 0.00973 0.03657 C -0.00242 0.02037 0.01147 0.03403 6.66667E-006 0.02361 C -0.00209 0.01967 -0.00954 0.00879 -0.00954 0.00208 E">
                                      <p:cBhvr>
                                        <p:cTn id="492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800"/>
                            </p:stCondLst>
                            <p:childTnLst>
                              <p:par>
                                <p:cTn id="4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9800"/>
                            </p:stCondLst>
                            <p:childTnLst>
                              <p:par>
                                <p:cTn id="5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18519E-006 C -0.01059 -0.00672 -0.00347 -0.00163 -0.01597 -0.01297 C -0.01753 -0.01436 -0.02083 -0.01714 -0.02083 -0.01714 C -0.02882 -0.03844 -0.02569 -0.02825 -0.03055 -0.04723 C -0.02934 -0.08496 -0.03021 -0.11714 -0.01441 -0.14839 C -0.01198 -0.15881 -0.00989 -0.16459 -0.00642 -0.17408 C -0.00312 -0.18288 -0.00243 -0.19168 0.00174 -0.20001 C 0.00382 -0.21181 0.00903 -0.22223 0.01146 -0.23427 C 0.01389 -0.24631 0.01597 -0.25857 0.01788 -0.27084 C 0.02049 -0.3132 0.01754 -0.35857 0.03229 -0.39769 E">
                                      <p:cBhvr>
                                        <p:cTn id="502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2800"/>
                            </p:stCondLst>
                            <p:childTnLst>
                              <p:par>
                                <p:cTn id="5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64 -0.39584 C 0.03838 -0.41922 0.03542 -0.44561 0.04306 -0.46667 C 0.03386 -0.47292 0.03334 -0.47014 0.02379 -0.46667 C 0.02015 -0.46991 0.01529 -0.47107 0.01251 -0.47547 C 0.00435 -0.4882 0.01042 -0.50024 -0.00694 -0.50764 C -0.00815 -0.51042 -0.01232 -0.51991 -0.01492 -0.52061 C -0.01822 -0.52153 -0.02152 -0.51945 -0.02464 -0.51829 C -0.02794 -0.51714 -0.03437 -0.51413 -0.03437 -0.51413 C -0.02708 -0.52871 -0.0243 -0.52848 -0.03263 -0.52477 C -0.03211 -0.52269 -0.0302 -0.52014 -0.03107 -0.51829 C -0.03194 -0.51644 -0.04044 -0.51274 -0.04235 -0.51181 C -0.04339 -0.50973 -0.04426 -0.50741 -0.04565 -0.50556 C -0.04756 -0.50302 -0.05034 -0.50186 -0.05208 -0.49908 C -0.05312 -0.49723 -0.0526 -0.49445 -0.05364 -0.4926 C -0.05537 -0.48982 -0.05937 -0.48959 -0.06006 -0.48612 C -0.06162 -0.47848 -0.06006 -0.47038 -0.06006 -0.46251 E">
                                      <p:cBhvr>
                                        <p:cTn id="505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800"/>
                            </p:stCondLst>
                            <p:childTnLst>
                              <p:par>
                                <p:cTn id="5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07 -0.46251 C -0.06111 -0.47547 -0.06163 -0.48844 -0.06336 -0.50117 C -0.06371 -0.50371 -0.06562 -0.50533 -0.06649 -0.50765 C -0.07586 -0.5308 -0.0776 -0.53844 -0.09548 -0.5507 C -0.10729 -0.55001 -0.11927 -0.54978 -0.13107 -0.54862 C -0.14253 -0.54746 -0.15277 -0.5382 -0.16336 -0.53357 C -0.16909 -0.52825 -0.17604 -0.52339 -0.18263 -0.52061 C -0.18836 -0.51529 -0.19531 -0.51228 -0.20034 -0.50556 C -0.20798 -0.49538 -0.19965 -0.50163 -0.20677 -0.497 E">
                                      <p:cBhvr>
                                        <p:cTn id="508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8800"/>
                            </p:stCondLst>
                            <p:childTnLst>
                              <p:par>
                                <p:cTn id="5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76 -0.49699 C -0.20833 -0.49838 -0.21041 -0.49931 -0.21162 -0.50116 C -0.21423 -0.50509 -0.21475 -0.51134 -0.21805 -0.51412 C -0.22378 -0.51898 -0.22291 -0.51574 -0.22291 -0.52269 E">
                                      <p:cBhvr>
                                        <p:cTn id="511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1800"/>
                            </p:stCondLst>
                            <p:childTnLst>
                              <p:par>
                                <p:cTn id="5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77 -0.497 C -0.20347 -0.50278 -0.1993 -0.50649 -0.19496 -0.51019 C -0.19305 -0.51204 -0.18871 -0.51575 -0.18871 -0.51528 C -0.17812 -0.53403 -0.17309 -0.53172 -0.15868 -0.54491 C -0.15416 -0.54862 -0.15086 -0.55487 -0.14548 -0.55625 C -0.1243 -0.56297 -0.13073 -0.55579 -0.12083 -0.56667 E">
                                      <p:cBhvr>
                                        <p:cTn id="514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4800"/>
                            </p:stCondLst>
                            <p:childTnLst>
                              <p:par>
                                <p:cTn id="5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84 -0.56667 C -0.15539 -0.57315 -0.16407 -0.58565 -0.17431 -0.58842 C -0.18611 -0.59167 -0.19775 -0.59259 -0.20938 -0.59467 C -0.22431 -0.60532 -0.2375 -0.62292 -0.25122 -0.63796 C -0.25434 -0.6412 -0.25938 -0.64954 -0.26285 -0.65023 C -0.26962 -0.65139 -0.27622 -0.65023 -0.28282 -0.65023 E">
                                      <p:cBhvr>
                                        <p:cTn id="517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7800"/>
                            </p:stCondLst>
                            <p:childTnLst>
                              <p:par>
                                <p:cTn id="5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448 -0.63218 C -0.27812 -0.64884 -0.28281 -0.66736 -0.29705 -0.6757 C -0.30069 -0.68403 -0.30538 -0.69121 -0.30989 -0.69884 C -0.31215 -0.70301 -0.31753 -0.70347 -0.32118 -0.70602 C -0.32534 -0.71551 -0.33125 -0.71852 -0.33889 -0.72408 C -0.35069 -0.73287 -0.3625 -0.74121 -0.37448 -0.74954 C -0.37777 -0.75185 -0.38055 -0.75486 -0.38402 -0.75671 C -0.38628 -0.75787 -0.38854 -0.75903 -0.39062 -0.76042 C -0.39392 -0.7625 -0.39705 -0.76505 -0.40017 -0.76759 C -0.40173 -0.76875 -0.40503 -0.77107 -0.40503 -0.77107 C -0.42847 -0.76991 -0.44323 -0.76806 -0.46475 -0.76574 C -0.47656 -0.76968 -0.47604 -0.76505 -0.47604 -0.77107 E">
                                      <p:cBhvr>
                                        <p:cTn id="520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800"/>
                            </p:stCondLst>
                            <p:childTnLst>
                              <p:par>
                                <p:cTn id="5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03 -0.77223 C -0.48333 -0.79168 -0.47846 -0.78589 -0.48732 -0.79376 C -0.49166 -0.80533 -0.49426 -0.80441 -0.5019 -0.81089 C -0.50572 -0.82154 -0.5085 -0.82293 -0.51631 -0.82802 C -0.52048 -0.83913 -0.52482 -0.84978 -0.52933 -0.86043 C -0.53055 -0.8632 -0.53333 -0.87293 -0.53576 -0.87547 C -0.53714 -0.87686 -0.53905 -0.87686 -0.54062 -0.87756 C -0.54426 -0.88519 -0.54669 -0.89376 -0.55034 -0.90117 C -0.55242 -0.90556 -0.55676 -0.91413 -0.55676 -0.91413 C -0.55624 -0.91691 -0.55503 -0.92269 -0.55503 -0.92269 E">
                                      <p:cBhvr>
                                        <p:cTn id="523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3800"/>
                            </p:stCondLst>
                            <p:childTnLst>
                              <p:par>
                                <p:cTn id="5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3 -0.92246 C -0.5592 -0.91389 -0.56145 -0.91551 -0.56788 -0.91158 C -0.5776 -0.90556 -0.58645 -0.89977 -0.59687 -0.89653 C -0.6092 -0.89283 -0.62204 -0.89098 -0.63402 -0.88588 C -0.63246 -0.8845 -0.6309 -0.88264 -0.62916 -0.88149 C -0.62604 -0.87963 -0.61944 -0.87732 -0.61944 -0.87732 C -0.61788 -0.87593 -0.61631 -0.87408 -0.61458 -0.87292 C -0.61145 -0.87107 -0.60503 -0.86876 -0.60503 -0.86876 E">
                                      <p:cBhvr>
                                        <p:cTn id="526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6800"/>
                            </p:stCondLst>
                            <p:childTnLst>
                              <p:par>
                                <p:cTn id="5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503 -0.86852 C -0.63455 -0.88195 -0.66545 -0.87709 -0.69687 -0.87709 E">
                                      <p:cBhvr>
                                        <p:cTn id="529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9800"/>
                            </p:stCondLst>
                            <p:childTnLst>
                              <p:par>
                                <p:cTn id="5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687 -0.87709 C -0.69531 -0.8757 -0.6934 -0.87477 -0.69201 -0.87292 C -0.69062 -0.87107 -0.69045 -0.86806 -0.68889 -0.86644 C -0.68628 -0.86366 -0.68229 -0.86412 -0.67917 -0.86204 C -0.66701 -0.85394 -0.68142 -0.86111 -0.66944 -0.85579 C -0.66614 -0.8544 -0.66302 -0.85278 -0.65972 -0.85139 C -0.65816 -0.8507 -0.65503 -0.84931 -0.65503 -0.84931 C -0.65347 -0.84792 -0.65191 -0.84607 -0.65017 -0.84491 C -0.64861 -0.84398 -0.64653 -0.84445 -0.64531 -0.84283 C -0.62587 -0.8169 -0.64809 -0.8382 -0.63403 -0.82546 C -0.63194 -0.8213 -0.62969 -0.8169 -0.6276 -0.81273 C -0.62656 -0.81065 -0.6243 -0.80625 -0.6243 -0.80625 C -0.61667 -0.77662 -0.62014 -0.7588 -0.63889 -0.74167 C -0.64097 -0.73727 -0.64323 -0.7331 -0.64531 -0.72894 C -0.64635 -0.72662 -0.64844 -0.72246 -0.64844 -0.72246 C -0.64792 -0.71528 -0.64792 -0.7081 -0.64687 -0.70093 C -0.64427 -0.68148 -0.63941 -0.67917 -0.6276 -0.66852 C -0.6217 -0.6632 -0.61649 -0.6625 -0.60972 -0.65996 C -0.60642 -0.6588 -0.60017 -0.65579 -0.60017 -0.65579 C -0.58889 -0.6456 -0.60017 -0.65371 -0.59687 -0.65996 C -0.59583 -0.66181 -0.59358 -0.65857 -0.59201 -0.65787 C -0.58715 -0.64769 -0.58715 -0.63843 -0.58715 -0.62546 E">
                                      <p:cBhvr>
                                        <p:cTn id="532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2800"/>
                            </p:stCondLst>
                            <p:childTnLst>
                              <p:par>
                                <p:cTn id="5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8715 -0.62547 C -0.59982 -0.63218 -0.61041 -0.64329 -0.62256 -0.65116 C -0.6434 -0.65047 -0.69756 -0.65672 -0.71944 -0.62755 E">
                                      <p:cBhvr>
                                        <p:cTn id="535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5800"/>
                            </p:stCondLst>
                            <p:childTnLst>
                              <p:par>
                                <p:cTn id="5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5800"/>
                            </p:stCondLst>
                            <p:childTnLst>
                              <p:par>
                                <p:cTn id="5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78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7.40741E-007 C -0.01111 0.01504 -0.00521 0.01157 -0.01597 0.01504 C -0.02361 0.02523 -0.02986 0.03426 -0.04028 0.03866 C -0.0467 0.04722 -0.05139 0.05579 -0.05798 0.06458 C -0.05972 0.0669 -0.05972 0.0706 -0.06128 0.07315 C -0.06302 0.07592 -0.06597 0.07685 -0.06771 0.07963 C -0.07031 0.08333 -0.07205 0.08819 -0.07413 0.09236 C -0.07517 0.09444 -0.07743 0.09884 -0.07743 0.09884 C -0.07691 0.10254 -0.07708 0.10648 -0.07569 0.10972 C -0.07465 0.11204 -0.07222 0.11204 -0.07083 0.11389 C -0.06354 0.12361 -0.07239 0.11829 -0.06285 0.12245 C -0.0618 0.12454 -0.06146 0.12847 -0.05955 0.12893 C -0.05798 0.12917 -0.04687 0.12176 -0.04514 0.12037 C -0.04184 0.11759 -0.03542 0.1118 -0.03542 0.1118 C -0.01215 0.11481 -0.02344 0.10903 -0.01441 0.12685 C -0.00937 0.14768 -0.00781 0.17106 0.00972 0.17847 C 0.01493 0.1831 0.01979 0.18657 0.02587 0.18912 C 0.0342 0.19653 0.04219 0.19236 0.05 0.18495 C 0.06077 0.17477 0.0717 0.16713 0.07917 0.15254 C 0.07969 0.15046 0.07986 0.14815 0.08073 0.14629 C 0.08195 0.14375 0.08455 0.14259 0.08559 0.13981 C 0.0875 0.13449 0.08733 0.12801 0.08872 0.12245 C 0.07813 0.10116 0.09514 0.1331 0.07917 0.1118 C 0.07743 0.10949 0.0783 0.10393 0.07587 0.10324 C 0.06111 0.0993 0.04583 0.10023 0.03073 0.09884 C 0.01528 0.09305 0.02309 0.09768 0.00972 0.08588 C 0.00816 0.08449 0.00643 0.0831 0.00486 0.08171 C 0.0033 0.08032 1.94444E-006 0.07731 1.94444E-006 0.07731 C -0.00746 0.0618 0.00226 0.07963 -0.00955 0.06667 C -0.01441 0.06134 -0.01701 0.04792 -0.01927 0.04074 C -0.01771 0.01944 -0.02222 0.02222 -0.01285 0.01504 C -0.0066 0.01018 -0.00868 0.01065 -0.00469 0.01065 E">
                                      <p:cBhvr>
                                        <p:cTn id="548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9800"/>
                            </p:stCondLst>
                            <p:childTnLst>
                              <p:par>
                                <p:cTn id="5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300"/>
                            </p:stCondLst>
                            <p:childTnLst>
                              <p:par>
                                <p:cTn id="5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2.59259E-006 C 0.01024 0.00324 0.02065 0.0051 0.03072 0.00857 C 0.03697 0.01088 0.04357 0.01551 0.04999 0.01713 C 0.05347 0.01806 0.05937 0.01899 0.06284 0.02153 C 0.06614 0.02408 0.07256 0.0301 0.07256 0.0301 C 0.08176 0.06482 0.09426 0.06389 0.11944 0.06667 C 0.12604 0.06829 0.13229 0.07084 0.13871 0.07315 C 0.16718 0.07176 0.19583 0.0713 0.2243 0.06875 C 0.24235 0.06713 0.25347 0.04375 0.26458 0.04283 C 0.28055 0.04144 0.2967 0.04283 0.31284 0.04283 E">
                                      <p:cBhvr>
                                        <p:cTn id="555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3300"/>
                            </p:stCondLst>
                            <p:childTnLst>
                              <p:par>
                                <p:cTn id="5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51 0.04214 C 0.30226 0.04514 0.28906 0.04746 0.27673 0.05325 C 0.27292 0.05695 0.2691 0.06065 0.2651 0.06436 C 0.26354 0.06598 0.26007 0.06876 0.26007 0.06876 C 0.25816 0.07269 0.25347 0.07501 0.2533 0.07987 C 0.25226 0.10903 0.25382 0.1176 0.25677 0.13982 C 0.25746 0.15186 0.25434 0.16621 0.26007 0.17547 C 0.26406 0.18195 0.27292 0.18264 0.2783 0.18427 C 0.29167 0.1882 0.30503 0.19121 0.3184 0.19538 C 0.32014 0.19769 0.32135 0.20047 0.32344 0.20209 C 0.32864 0.20602 0.3401 0.21112 0.3401 0.21112 C 0.34236 0.21413 0.3441 0.2176 0.3467 0.21991 C 0.34809 0.2213 0.35035 0.22084 0.35173 0.22223 C 0.3533 0.22385 0.35382 0.22686 0.35503 0.22871 C 0.35764 0.23264 0.36059 0.23612 0.36337 0.23982 C 0.36441 0.24144 0.36667 0.24445 0.36667 0.24445 C 0.3684 0.25116 0.37309 0.26158 0.37673 0.26667 C 0.3809 0.28427 0.375 0.26274 0.38177 0.27778 C 0.38871 0.29329 0.37743 0.27616 0.38663 0.28889 C 0.3901 0.30209 0.39826 0.31343 0.40833 0.3176 C 0.41267 0.32362 0.41614 0.32339 0.4217 0.32663 C 0.42621 0.3294 0.43507 0.33542 0.43507 0.33542 C 0.43819 0.33959 0.44219 0.34214 0.44496 0.34653 C 0.45885 0.36783 0.44392 0.35371 0.46007 0.36667 C 0.46389 0.37408 0.46528 0.37709 0.4717 0.37987 C 0.47344 0.38218 0.47465 0.38496 0.47673 0.38658 C 0.47969 0.38889 0.48663 0.39098 0.48663 0.39098 C 0.48785 0.39329 0.48854 0.39584 0.4901 0.39769 C 0.49305 0.40116 0.5 0.40649 0.5 0.40649 C 0.50434 0.41552 0.51094 0.42084 0.51667 0.42871 C 0.51979 0.43288 0.5217 0.43843 0.525 0.44214 C 0.52639 0.44376 0.52847 0.44329 0.53003 0.44445 C 0.53177 0.44561 0.53351 0.447 0.53507 0.44885 C 0.54462 0.45996 0.54965 0.46852 0.56007 0.47778 C 0.56528 0.48241 0.56771 0.49214 0.57344 0.49538 C 0.58177 0.50001 0.58837 0.50718 0.5967 0.51112 C 0.60399 0.52385 0.61337 0.53102 0.6217 0.54214 C 0.62604 0.55927 0.61979 0.53866 0.6283 0.55325 C 0.62934 0.5551 0.62917 0.55788 0.63003 0.55996 C 0.63246 0.56621 0.63472 0.57269 0.63837 0.57778 C 0.64219 0.59214 0.64219 0.61482 0.65677 0.61552 C 0.67222 0.61621 0.68785 0.61552 0.7033 0.61552 E">
                                      <p:cBhvr>
                                        <p:cTn id="558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6300"/>
                            </p:stCondLst>
                            <p:childTnLst>
                              <p:par>
                                <p:cTn id="5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33 0.61551 C 0.69583 0.61713 0.68889 0.61921 0.6816 0.62222 C 0.68056 0.62454 0.67951 0.62685 0.6783 0.62893 C 0.67726 0.63055 0.675 0.63125 0.67483 0.63333 C 0.67431 0.63842 0.6757 0.64375 0.67656 0.64884 C 0.67691 0.65116 0.67708 0.65393 0.6783 0.65555 C 0.67951 0.65717 0.6816 0.65717 0.68316 0.65787 C 0.69011 0.66666 0.70365 0.67106 0.7132 0.67106 E">
                                      <p:cBhvr>
                                        <p:cTn id="561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9300"/>
                            </p:stCondLst>
                            <p:childTnLst>
                              <p:par>
                                <p:cTn id="5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319 0.67106 C 0.70399 0.66273 0.70139 0.65856 0.68993 0.65347 C 0.68229 0.6463 0.67795 0.63588 0.66996 0.62893 C 0.66632 0.62153 0.66284 0.6169 0.65989 0.60903 C 0.66163 0.5919 0.66284 0.57454 0.66996 0.55995 C 0.67239 0.55 0.67882 0.53333 0.68333 0.52454 C 0.68593 0.51412 0.68975 0.50185 0.69166 0.4912 C 0.69375 0.4787 0.69618 0.46643 0.70156 0.45555 C 0.70503 0.43796 0.70868 0.41528 0.71666 0.4 C 0.72031 0.37384 0.71614 0.40046 0.71996 0.38218 C 0.72118 0.37639 0.72326 0.36458 0.72326 0.36458 C 0.72482 0.33055 0.72326 0.29606 0.72656 0.26227 C 0.72708 0.25718 0.74218 0.25509 0.74826 0.25347 C 0.75191 0.24838 0.75 0.24884 0.75329 0.24884 E">
                                      <p:cBhvr>
                                        <p:cTn id="564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ntroduction To Quarter 12 Lesson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hird Missionary Jour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ed about A. D. 5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te similar to the second jour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ro was the Roman Emper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this time books were writ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lat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Corinth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Corinth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m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E254-7454-45C2-9A4A-76360E0D7EF3}" type="slidenum">
              <a:t>26</a:t>
            </a:fld>
          </a:p>
        </p:txBody>
      </p:sp>
    </p:spTree>
  </p:cSld>
  <p:transition spd="med">
    <p:circl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ntroduction To Quarter 12 Lesson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returned to Jerusalem – arres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founded accusations m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wo years, he was taken to 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l remained a  prisoner in Rome for two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re, he wro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hesians, Colossians, Philipp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letters to Timothy and one to Ti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’s work was fi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510-EC92-4157-974E-BC8224792002}" type="slidenum">
              <a:t>27</a:t>
            </a:fld>
          </a:p>
        </p:txBody>
      </p:sp>
    </p:spTree>
  </p:cSld>
  <p:transition spd="med">
    <p:circle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Great Commiss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ark 16:15-16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to His apost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o into all the world and preach the gospel to every creature.  He who believes and is baptized will be saved; but he who does not believe will be condemned.”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ork begins with two resul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edience to the terms of sal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ecution by unbelie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15F-C5D0-4246-8921-47A9C44E066A}" type="slidenum">
              <a:t>3</a:t>
            </a:fld>
          </a:p>
        </p:txBody>
      </p:sp>
    </p:spTree>
  </p:cSld>
  <p:transition spd="med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Work Begins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1-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asc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hias cho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Penteco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ostles filled with the Holy Spir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ter’s ser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offering of “The Plan of Salvat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,000 souls added to the chu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urch of Christ was establ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1C2-56A4-4031-B558-0841B679E78B}" type="slidenum">
              <a:t>4</a:t>
            </a:fld>
          </a:p>
        </p:txBody>
      </p:sp>
    </p:spTree>
  </p:cSld>
  <p:transition spd="med">
    <p:circl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onflicts Begin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3-7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 and John performed a miracle and was taken into cust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?  They preached Jesus – His death, His resurrection, His promise of sal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urch still grew in number and the shared their posse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nias and Sapphira lied to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t them their l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6E1-5475-49F9-9178-2A852F017CFD}" type="slidenum">
              <a:t>5</a:t>
            </a:fld>
          </a:p>
        </p:txBody>
      </p:sp>
    </p:spTree>
  </p:cSld>
  <p:transition spd="med">
    <p:circl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ore Conflicts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3-7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aching and healing continu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postles were arrested but said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We must obey God rather than me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on release, th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joiced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lt honored to suffer persecutions,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pt on preac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22A-295F-4E8B-8E5E-4E0B8347BC86}" type="slidenum">
              <a:t>6</a:t>
            </a:fld>
          </a:p>
        </p:txBody>
      </p:sp>
    </p:spTree>
  </p:cSld>
  <p:transition spd="med">
    <p:circl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evere Persecutions Begin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3-7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muring within the churc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cian Jews complained about their people being negl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 men selected to resolve the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he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ed miracles and preached their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usations against him caused a st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hen stoned to death –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rty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young man Saul appro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8EB-5743-4182-863F-0C2CD9B8A4B3}" type="slidenum">
              <a:t>7</a:t>
            </a:fld>
          </a:p>
        </p:txBody>
      </p:sp>
    </p:spTree>
  </p:cSld>
  <p:transition spd="med">
    <p:circl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Church Is Scattered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8-1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e persecutions continu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step in God’ pl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...and you shall be witnesses to Me in Jerusalem, and in all Judea and Samaria, and to the end of the earth.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cts 1: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ip preached in Samar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accepted the Word by being bapt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Holy Spirit given to others in Sam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5DB8-BAAB-46CE-A0FB-58DB2AE2F143}" type="slidenum">
              <a:t>8</a:t>
            </a:fld>
          </a:p>
        </p:txBody>
      </p:sp>
    </p:spTree>
  </p:cSld>
  <p:transition spd="med">
    <p:circl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Church Is Scattered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8-1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ip converted the Ethiopian eunu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ord went beyond Judah and Sam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was converted in Damas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a special apos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’s first sermon to Gent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nelius and his household believed and was bapt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Holy Spirit came upon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C8F-79A1-4238-A05F-259B81B887B7}" type="slidenum">
              <a:t>9</a:t>
            </a:fld>
          </a:p>
        </p:txBody>
      </p:sp>
    </p:spTree>
  </p:cSld>
  <p:transition spd="med">
    <p:circl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20:47:20Z</dcterms:created>
  <dc:creator>Frank D Vines</dc:creator>
  <dc:description/>
  <dc:language>en-US</dc:language>
  <cp:lastModifiedBy>Frank D Vines</cp:lastModifiedBy>
  <dcterms:modified xsi:type="dcterms:W3CDTF">2007-03-28T23:22:16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